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D60-733D-49A8-AE89-ED84C81D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F61-7DF8-4C68-B5D0-7F925E0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2BC-8535-4827-8A85-A6DFF3A3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2CB-3AAB-48D6-B9A8-9B8DF7A8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70C-AB58-4E78-8680-4822099C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247-881C-48AA-9797-7E7D2238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B8D-2836-403F-9F37-E4BD05B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A1D-5B58-4DB0-91FC-BF9AA32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140-4687-4EB9-847B-94970D7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5E0-7188-4BD7-BAC7-6ACA853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A8B-FF57-4E0C-8CA6-59BB134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D8F-83EB-4D92-A886-2D5D72BC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685E-2D0F-4120-A1CB-86C2A1DA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228600"/>
            <a:ext cx="380988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jet de multimédia VIMM9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Réalisation d’un jeu en 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571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Équipe de réalis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Laurent E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Vincent GA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Karen RIC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Julien V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cadrant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M. STROMB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380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3. PERSONN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666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895480"/>
            <a:ext cx="7620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ifficulté de trouver des personnages en 3D iso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Planescape To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ersonnages sauvegardés au format 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Extraire des GIFs à partir de 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Importer ces GIFs animés dans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Créer les clips asso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20040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34340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67820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02920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2133720"/>
            <a:ext cx="5715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e de Bas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Boucle d’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4800600"/>
          <a:ext cx="71136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800600"/>
                    <a:ext cx="7113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81080" y="4800600"/>
          <a:ext cx="711360" cy="116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800600"/>
                    <a:ext cx="7113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76720" y="4800600"/>
          <a:ext cx="711000" cy="116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800600"/>
                    <a:ext cx="711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4800600" y="3886200"/>
            <a:ext cx="2895480" cy="2679480"/>
            <a:chOff x="4800600" y="3886200"/>
            <a:chExt cx="2895480" cy="2679480"/>
          </a:xfrm>
        </p:grpSpPr>
        <p:sp>
          <p:nvSpPr>
            <p:cNvPr id="104" name=""/>
            <p:cNvSpPr/>
            <p:nvPr/>
          </p:nvSpPr>
          <p:spPr>
            <a:xfrm>
              <a:off x="6248160" y="623088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0600" y="623088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8160" y="5895720"/>
              <a:ext cx="1447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5895720"/>
              <a:ext cx="1447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160" y="556092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556092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160" y="5225760"/>
              <a:ext cx="1447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0600" y="5225760"/>
              <a:ext cx="1447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160" y="489096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« monstre1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489096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160" y="455616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« personnage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600" y="4556160"/>
              <a:ext cx="14475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8160" y="4221000"/>
              <a:ext cx="1447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m 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0600" y="4221000"/>
              <a:ext cx="1447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d inter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3886200"/>
              <a:ext cx="28954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bleau des Acte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422100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0600" y="455616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489096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522576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556092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589572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623088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3886200"/>
              <a:ext cx="2895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3886200"/>
              <a:ext cx="0" cy="26794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3886200"/>
              <a:ext cx="0" cy="26794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6565680"/>
              <a:ext cx="2895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8160" y="4221000"/>
              <a:ext cx="0" cy="234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696080" y="41911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81880" y="33523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391160" y="3352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33526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85800" y="441972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4. MOTEUR DE J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2133720"/>
            <a:ext cx="57150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Éléments Clef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Comb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895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4120" y="2209680"/>
          <a:ext cx="71100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209680"/>
                    <a:ext cx="711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86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209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00240" y="27432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068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257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67080" y="3505320"/>
          <a:ext cx="1247760" cy="15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3505320"/>
                    <a:ext cx="12477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657600" y="5410080"/>
          <a:ext cx="41292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5410080"/>
                    <a:ext cx="4129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267080" y="5257800"/>
          <a:ext cx="1351080" cy="77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5257800"/>
                    <a:ext cx="1351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867280" y="5029200"/>
          <a:ext cx="932040" cy="1219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5029200"/>
                    <a:ext cx="932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4. MOTEUR DE J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10080" y="304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362320"/>
            <a:ext cx="58672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s petits plus de notre j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a vue (3D isométr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es décors et personnages (extra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e que nous avons app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merci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514600"/>
            <a:ext cx="4724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dée d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é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n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é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1.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971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e que nous comptions réalis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lan" descr=""/>
          <p:cNvPicPr/>
          <p:nvPr/>
        </p:nvPicPr>
        <p:blipFill>
          <a:blip r:embed="rId2"/>
          <a:stretch/>
        </p:blipFill>
        <p:spPr>
          <a:xfrm>
            <a:off x="5721480" y="1600200"/>
            <a:ext cx="3346200" cy="464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962520"/>
            <a:ext cx="556236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Mais les choses ne furent pas si simp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&gt; Nouvelle répartition des tâ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362320"/>
            <a:ext cx="5715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oix du style des dé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9966"/>
                </a:solidFill>
                <a:latin typeface="Times New Roman"/>
              </a:rPr>
              <a:t>Dessiner nos propres décor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9966"/>
                </a:solidFill>
                <a:latin typeface="Times New Roman"/>
              </a:rPr>
              <a:t>Importer des décors exista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9966"/>
                </a:solidFill>
                <a:latin typeface="Times New Roman"/>
              </a:rPr>
              <a:t>Difficultés rencontrées</a:t>
            </a: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32280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31316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28804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2. DE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2209680"/>
            <a:ext cx="5715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Monde 1 : Le monde des nei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2. DE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vincent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286000"/>
            <a:ext cx="5715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Monde 2 : Le dé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2. DE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aren" descr=""/>
          <p:cNvPicPr/>
          <p:nvPr/>
        </p:nvPicPr>
        <p:blipFill>
          <a:blip r:embed="rId2"/>
          <a:stretch/>
        </p:blipFill>
        <p:spPr>
          <a:xfrm>
            <a:off x="838080" y="286704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2286000"/>
            <a:ext cx="5715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Monde 3 : Les ru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2. DE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ulien" descr=""/>
          <p:cNvPicPr/>
          <p:nvPr/>
        </p:nvPicPr>
        <p:blipFill>
          <a:blip r:embed="rId2"/>
          <a:stretch/>
        </p:blipFill>
        <p:spPr>
          <a:xfrm>
            <a:off x="838080" y="28576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666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048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66"/>
                </a:solidFill>
                <a:latin typeface="Times New Roman"/>
              </a:rPr>
              <a:t>Carte Glo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2. DE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lanFinal" descr=""/>
          <p:cNvPicPr/>
          <p:nvPr/>
        </p:nvPicPr>
        <p:blipFill>
          <a:blip r:embed="rId2"/>
          <a:stretch/>
        </p:blipFill>
        <p:spPr>
          <a:xfrm>
            <a:off x="0" y="2720880"/>
            <a:ext cx="9144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ondp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666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80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2. DEC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262320"/>
            <a:ext cx="5715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Graphis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Interactions</a:t>
            </a:r>
            <a:r>
              <a:rPr b="0" i="1" lang="en-US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114800" y="2590920"/>
          <a:ext cx="13716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590920"/>
                    <a:ext cx="13716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14400" y="380988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373640"/>
            <a:ext cx="60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6:44:01Z</dcterms:created>
  <dc:creator>Karen</dc:creator>
  <dc:description/>
  <dc:language>en-US</dc:language>
  <cp:lastModifiedBy>vgarcia</cp:lastModifiedBy>
  <dcterms:modified xsi:type="dcterms:W3CDTF">2003-03-28T11:06:19Z</dcterms:modified>
  <cp:revision>25</cp:revision>
  <dc:subject/>
  <dc:title>Aucun titre de diapositive</dc:title>
</cp:coreProperties>
</file>